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FEA-C872-4A46-9858-2EB74276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D5C-66FF-498E-B774-6A61A2DE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F6F-75AA-45CA-957B-28777A99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DB8-2D23-4D16-B740-6D0E67C8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1CB-8225-4805-BC41-3B96D17F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4AD-F480-41E1-BBFA-BD83C59E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505-03FF-47EB-AF1C-B3EA96DD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579-05D1-4D0F-836B-A0AF6014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108-B827-4838-BF6E-DE0A00F5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DF2-06F5-4D63-84A1-BABB7FCB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3A5-6724-4727-BD69-EF06F92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7FD-A6E6-4447-BC74-E8EE568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8167-606A-4AFF-B3BE-76537044F32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hur 1 var.bmp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0:33:34Z</dcterms:created>
  <dc:creator>Mitch</dc:creator>
  <dc:description/>
  <dc:language>en-US</dc:language>
  <cp:lastModifiedBy>Mitch</cp:lastModifiedBy>
  <dcterms:modified xsi:type="dcterms:W3CDTF">2011-01-06T00:34:07Z</dcterms:modified>
  <cp:revision>1</cp:revision>
  <dc:subject/>
  <dc:title>Slide 1</dc:title>
</cp:coreProperties>
</file>